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1FC-D6EB-44EC-B27B-897E8775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3DC-E566-4E79-BE2B-C24C95B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554-D0CF-44A3-A61D-96F446B3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4EA-2C94-4261-BD04-96F7D4D2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D181-3C58-44E2-8A22-062B9A02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74FD-1B3B-49D5-991B-E98772EB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00D5-F8F5-4A01-9D11-B2FB0D82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016-A35E-4443-A4A4-2A277A6C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A165-484C-4C67-896D-1138D9A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0D81-E4E6-4362-AE2B-297ABA7B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757F-6A6C-4F1A-94D8-E5D2CAA8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795-DDAE-4E0C-9C99-9E8900E2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2D23-5F2A-48AE-9AFD-38BB8FD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9F28-8589-40A0-8B11-7F5A883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1418-5C93-4D77-84C2-B173A56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8A73-9F44-40B7-A61A-88C90B49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A71E-927F-483E-BDA8-4F2F49BA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72E-7B47-450D-A1C7-FC82522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D76-4F29-43ED-928D-CCDE4EAC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DDC-C465-4697-9305-4A85262F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853-CC5D-45F3-BBEF-A3BD1346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E6B-BC80-455F-99DA-BE92D23E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531-9A53-4F2A-BE7A-76729DE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558-C50A-42B3-9C68-4135C76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7F2-ADB1-4CDD-B072-2D0631E140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9CC-6E10-4A4A-85AE-ABBC70184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hyperlink" Target="http://images.google.ro/imgres?imgurl=http://www.editie.ro/images/stiri/stire56295.jpg&amp;imgrefurl=http://www.craiova-maxima.ro/forum/viewtopic.php%3Ft%3D5356&amp;usg=__4C_s3W6NySmDs-L78YV9hScyUYI=&amp;h=333&amp;w=500&amp;sz=24&amp;hl=ro&amp;start=225&amp;tbnid=UooZFAA3p4LtKM:&amp;tbnh=87&amp;tbnw=130&amp;prev=/images%3Fq%3Dparcul%2BRomanescu%26gbv%3D2%26ndsp%3D18%26hl%3Dro%26sa%3DN%26start%3D216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ro/imgres?imgurl=http://image28.webshots.com/28/9/30/38/251393038zyeucy_ph.jpg&amp;imgrefurl=http://outdoors.webshots.com/photo/1251393038063549507zyeucy&amp;usg=__K43GHQtyNNFgA011PRV3Hya23K8=&amp;h=480&amp;w=640&amp;sz=57&amp;hl=ro&amp;start=162&amp;tbnid=rzI9P0ilYIS7PM:&amp;tbnh=103&amp;tbnw=137&amp;prev=/images%3Fq%3Dparcul%2BRomanescu%26gbv%3D2%26ndsp%3D18%26hl%3Dro%26sa%3DN%26start%3D144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google.ro/imgres?imgurl=http://image32.webshots.com/32/6/36/56/261963656hwgayP_fs.jpg&amp;imgrefurl=http://outdoors.webshots.com/photo/1261963656063549507hwgayP&amp;usg=__UZY5-TabsXs0CWXmjoxAppmq28I=&amp;h=1200&amp;w=1600&amp;sz=259&amp;hl=ro&amp;start=154&amp;tbnid=VTLPM4j5T5xcdM:&amp;tbnh=113&amp;tbnw=150&amp;prev=/images%3Fq%3Dparcul%2BRomanescu%26gbv%3D2%26ndsp%3D18%26hl%3Dro%26sa%3DN%26start%3D144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images.google.ro/imgres?imgurl=http://farm3.static.flickr.com/2007/2172561376_747cceeeec.jpg%3Fv%3D0&amp;imgrefurl=http://flickr.com/photos/10438010%40N04/2172561376/&amp;usg=__FWk79YDIsTjKxNK6CxrQP1w9ouc=&amp;h=500&amp;w=375&amp;sz=165&amp;hl=ro&amp;start=146&amp;tbnid=hYRuGJlIDV9-mM:&amp;tbnh=130&amp;tbnw=98&amp;prev=/images%3Fq%3Dparcul%2BRomanescu%26gbv%3D2%26ndsp%3D18%26hl%3Dro%26sa%3DN%26start%3D144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777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arcul Nicolae Roma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n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e a naturii, modela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 om, este în prezent al treilea parc natura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 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me  di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 luc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le de specialitate a fost nominalizat printre cele mai imp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are parcuri naturale din Europa, a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ri de Versaill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a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incio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al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de parcul englezesc din Mü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te operă de arhitectură peisagistică romantică, un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 modul de concepţie 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 Ro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ia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00000" y="549360"/>
            <a:ext cx="7775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u g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desc 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a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omul pierde g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nil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 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le, se va pierde pe sin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su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“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J.R. Oppenheimer, 1954)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218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nus gluti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lnus glutinosa"/>
          <p:cNvPicPr/>
          <p:nvPr/>
        </p:nvPicPr>
        <p:blipFill>
          <a:blip r:embed="rId1"/>
          <a:stretch/>
        </p:blipFill>
        <p:spPr>
          <a:xfrm>
            <a:off x="3780000" y="162864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cul…pl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ă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â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 verzi ai ora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ş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ului</a:t>
            </a:r>
            <a:br>
              <a:rPr sz="3800"/>
            </a:b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uime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te cu peisajele lui romantice, cu exploziile de culori, sunete  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i miresme</a:t>
            </a:r>
            <a:br>
              <a:rPr sz="1800"/>
            </a:br>
            <a:br>
              <a:rPr sz="3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3585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MG_4624"/>
          <p:cNvPicPr/>
          <p:nvPr/>
        </p:nvPicPr>
        <p:blipFill>
          <a:blip r:embed="rId1"/>
          <a:stretch/>
        </p:blipFill>
        <p:spPr>
          <a:xfrm>
            <a:off x="4572000" y="1484280"/>
            <a:ext cx="4032360" cy="290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multiculturalitate"/>
          <p:cNvPicPr/>
          <p:nvPr/>
        </p:nvPicPr>
        <p:blipFill>
          <a:blip r:embed="rId2"/>
          <a:stretch/>
        </p:blipFill>
        <p:spPr>
          <a:xfrm>
            <a:off x="4500720" y="4581360"/>
            <a:ext cx="4303440" cy="201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imagine_parc_Craiova"/>
          <p:cNvPicPr/>
          <p:nvPr/>
        </p:nvPicPr>
        <p:blipFill>
          <a:blip r:embed="rId3"/>
          <a:stretch/>
        </p:blipFill>
        <p:spPr>
          <a:xfrm>
            <a:off x="684360" y="4172040"/>
            <a:ext cx="3456000" cy="2496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Picture%20031"/>
          <p:cNvPicPr/>
          <p:nvPr/>
        </p:nvPicPr>
        <p:blipFill>
          <a:blip r:embed="rId4"/>
          <a:stretch/>
        </p:blipFill>
        <p:spPr>
          <a:xfrm>
            <a:off x="826920" y="155736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nvit</a:t>
            </a:r>
            <a:r>
              <a:rPr b="0" lang="ro-RO" sz="20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la relaxare</a:t>
            </a:r>
            <a:r>
              <a:rPr b="0" lang="ro-RO" sz="2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pe malul sau în mijlocul lacului, pe alei, la hipodrom, velodrom sau amfiteatru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10" descr="IMG_4657"/>
          <p:cNvPicPr/>
          <p:nvPr/>
        </p:nvPicPr>
        <p:blipFill>
          <a:blip r:embed="rId1"/>
          <a:stretch/>
        </p:blipFill>
        <p:spPr>
          <a:xfrm>
            <a:off x="1042920" y="191628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in vacanta"/>
          <p:cNvPicPr/>
          <p:nvPr/>
        </p:nvPicPr>
        <p:blipFill>
          <a:blip r:embed="rId2"/>
          <a:stretch/>
        </p:blipFill>
        <p:spPr>
          <a:xfrm>
            <a:off x="6804000" y="3429000"/>
            <a:ext cx="180972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salcii"/>
          <p:cNvPicPr/>
          <p:nvPr/>
        </p:nvPicPr>
        <p:blipFill>
          <a:blip r:embed="rId3"/>
          <a:stretch/>
        </p:blipFill>
        <p:spPr>
          <a:xfrm>
            <a:off x="1042920" y="4221000"/>
            <a:ext cx="2665440" cy="201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stire562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4797360"/>
            <a:ext cx="2154240" cy="144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cu-cainele-in-parc"/>
          <p:cNvPicPr/>
          <p:nvPr/>
        </p:nvPicPr>
        <p:blipFill>
          <a:blip r:embed="rId6"/>
          <a:stretch/>
        </p:blipFill>
        <p:spPr>
          <a:xfrm>
            <a:off x="4067280" y="4437000"/>
            <a:ext cx="2376360" cy="1778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183"/>
          <p:cNvPicPr/>
          <p:nvPr/>
        </p:nvPicPr>
        <p:blipFill>
          <a:blip r:embed="rId7"/>
          <a:stretch/>
        </p:blipFill>
        <p:spPr>
          <a:xfrm>
            <a:off x="4643280" y="1773360"/>
            <a:ext cx="1459080" cy="244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tb_150_0710_6_281759"/>
          <p:cNvPicPr/>
          <p:nvPr/>
        </p:nvPicPr>
        <p:blipFill>
          <a:blip r:embed="rId8"/>
          <a:stretch/>
        </p:blipFill>
        <p:spPr>
          <a:xfrm>
            <a:off x="6877080" y="177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Parcul…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6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invită la romantism şi armo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fiind martor al evenimentelor din viaţa noast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IMG_1714"/>
          <p:cNvPicPr/>
          <p:nvPr/>
        </p:nvPicPr>
        <p:blipFill>
          <a:blip r:embed="rId1"/>
          <a:stretch/>
        </p:blipFill>
        <p:spPr>
          <a:xfrm>
            <a:off x="684360" y="26370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IMG_1811"/>
          <p:cNvPicPr/>
          <p:nvPr/>
        </p:nvPicPr>
        <p:blipFill>
          <a:blip r:embed="rId2"/>
          <a:stretch/>
        </p:blipFill>
        <p:spPr>
          <a:xfrm>
            <a:off x="4859280" y="2565360"/>
            <a:ext cx="364500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"Eu g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desc c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dac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omul pierde gr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dinile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 c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rile, se va pierde pe sine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î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su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". (J. R. Oppenheimer, 1954)</a:t>
            </a: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i c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ev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a crâmpeie din nevoia de parc în viaţamea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aic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www.youtube.com/watch?v=eh04d-XyX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Istor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ativa acestei importante luc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 urbanistice apa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e cunoscutului om de cultu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N.P. Romanescu,care, fiind primar al Craiove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 1899, a ho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 amenajarea unui parc pentru odih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recre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 1900, la Expoz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a Intern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onala de la Paris, proiectu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arculu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fost premiat cu medalia de a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uc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le de realizare a parculu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b conducerea arhitectului peisajist francez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mile Rendont, au durat 3 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0000"/>
                </a:solidFill>
                <a:latin typeface="Times New Roman"/>
              </a:rPr>
              <a:t>Istor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879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i este cunoscu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ub numele de Parcul Bibescu, deoare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e amplasat pe un teren cum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t de Pri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a Craiovei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 anul 1853, de la Iancu Bibescu, fratele lui Grigore Bibes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pentru 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 mijlocul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 se ga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 una dintre casele familiei domnitoa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latul Bibescu"/>
          <p:cNvPicPr/>
          <p:nvPr/>
        </p:nvPicPr>
        <p:blipFill>
          <a:blip r:embed="rId1"/>
          <a:stretch/>
        </p:blipFill>
        <p:spPr>
          <a:xfrm>
            <a:off x="3635280" y="2133720"/>
            <a:ext cx="5042160" cy="36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entru realizarea proiectului s-au utilizat solu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ţ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î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drazne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ţ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 la vremea acee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reare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ui cadru romantic, prin edificarea unor constru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i de tipul Podului Suspend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stel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erme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alizarea unui pod din beton care im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runchiuri de arb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limatizar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lantarea unor specii valoroase de arbo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arb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rafata tota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parcului este de 96 de h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cuprinde, pe 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lant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ile ornamentale d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ste 250 de specii 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bo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arb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lac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 peste 4 ha, un hipodrom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mfiteatru pentru spectaco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n 1906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i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g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zoologi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 –căreia i se va schimba amplasamentul  anul viitor în parcul pădure Lunca Ji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-a mai adăugat recent şi un velodro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I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3" descr="IMG_4651"/>
          <p:cNvPicPr/>
          <p:nvPr/>
        </p:nvPicPr>
        <p:blipFill>
          <a:blip r:embed="rId1"/>
          <a:stretch/>
        </p:blipFill>
        <p:spPr>
          <a:xfrm>
            <a:off x="1176480" y="160020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IMG_4648"/>
          <p:cNvPicPr/>
          <p:nvPr/>
        </p:nvPicPr>
        <p:blipFill>
          <a:blip r:embed="rId2"/>
          <a:stretch/>
        </p:blipFill>
        <p:spPr>
          <a:xfrm>
            <a:off x="5138640" y="160020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G_4645"/>
          <p:cNvPicPr/>
          <p:nvPr/>
        </p:nvPicPr>
        <p:blipFill>
          <a:blip r:embed="rId3"/>
          <a:stretch/>
        </p:blipFill>
        <p:spPr>
          <a:xfrm>
            <a:off x="1176480" y="394164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G_1684"/>
          <p:cNvPicPr/>
          <p:nvPr/>
        </p:nvPicPr>
        <p:blipFill>
          <a:blip r:embed="rId4"/>
          <a:stretch/>
        </p:blipFill>
        <p:spPr>
          <a:xfrm>
            <a:off x="5138640" y="394164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4" descr="rotonda"/>
          <p:cNvPicPr/>
          <p:nvPr/>
        </p:nvPicPr>
        <p:blipFill>
          <a:blip r:embed="rId1"/>
          <a:stretch/>
        </p:blipFill>
        <p:spPr>
          <a:xfrm>
            <a:off x="900000" y="1916280"/>
            <a:ext cx="1590840" cy="217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podul suspendat"/>
          <p:cNvPicPr/>
          <p:nvPr/>
        </p:nvPicPr>
        <p:blipFill>
          <a:blip r:embed="rId2"/>
          <a:stretch/>
        </p:blipFill>
        <p:spPr>
          <a:xfrm>
            <a:off x="900000" y="4508640"/>
            <a:ext cx="2808360" cy="191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pod"/>
          <p:cNvPicPr/>
          <p:nvPr/>
        </p:nvPicPr>
        <p:blipFill>
          <a:blip r:embed="rId3"/>
          <a:stretch/>
        </p:blipFill>
        <p:spPr>
          <a:xfrm>
            <a:off x="6732720" y="4797360"/>
            <a:ext cx="21589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251393038zyeucy_p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162864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261963656hwgayP_f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67280" y="4508640"/>
            <a:ext cx="2376360" cy="178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270859149pxFdtH_fs"/>
          <p:cNvPicPr/>
          <p:nvPr/>
        </p:nvPicPr>
        <p:blipFill>
          <a:blip r:embed="rId8"/>
          <a:stretch/>
        </p:blipFill>
        <p:spPr>
          <a:xfrm>
            <a:off x="3851280" y="3068640"/>
            <a:ext cx="193356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2172561376_747cceeee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27640" y="1628640"/>
            <a:ext cx="184644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2818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osebi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valoare au plant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ile forestier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orname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re varie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e decorative, cele mai demne de ate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a vizitatorilor s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inus excelsa w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ifer originar din Himala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inus excelsa wal"/>
          <p:cNvPicPr/>
          <p:nvPr/>
        </p:nvPicPr>
        <p:blipFill>
          <a:blip r:embed="rId1"/>
          <a:stretch/>
        </p:blipFill>
        <p:spPr>
          <a:xfrm>
            <a:off x="4427640" y="2276640"/>
            <a:ext cx="353052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erasus serrul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errasus serrulata"/>
          <p:cNvPicPr/>
          <p:nvPr/>
        </p:nvPicPr>
        <p:blipFill>
          <a:blip r:embed="rId1"/>
          <a:stretch/>
        </p:blipFill>
        <p:spPr>
          <a:xfrm>
            <a:off x="4932360" y="1916280"/>
            <a:ext cx="2997360" cy="4008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errasus 2"/>
          <p:cNvPicPr/>
          <p:nvPr/>
        </p:nvPicPr>
        <p:blipFill>
          <a:blip r:embed="rId2"/>
          <a:stretch/>
        </p:blipFill>
        <p:spPr>
          <a:xfrm>
            <a:off x="1692360" y="3141720"/>
            <a:ext cx="2016000" cy="15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2f2f18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6920" y="1599840"/>
            <a:ext cx="262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er saccharin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cer saccharium"/>
          <p:cNvPicPr/>
          <p:nvPr/>
        </p:nvPicPr>
        <p:blipFill>
          <a:blip r:embed="rId1"/>
          <a:stretch/>
        </p:blipFill>
        <p:spPr>
          <a:xfrm>
            <a:off x="4500720" y="1413000"/>
            <a:ext cx="351936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5:53:10Z</dcterms:created>
  <dc:creator>Savi</dc:creator>
  <dc:description/>
  <dc:language>en-US</dc:language>
  <cp:lastModifiedBy>Nastasia</cp:lastModifiedBy>
  <dcterms:modified xsi:type="dcterms:W3CDTF">2012-09-11T19:23:32Z</dcterms:modified>
  <cp:revision>16</cp:revision>
  <dc:subject/>
  <dc:title>Slide 1</dc:title>
</cp:coreProperties>
</file>